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9DB-6D71-4B23-A990-BC9CA9D3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B85-F01D-4FE4-A779-48DE0CB4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720-9884-4371-8B8E-875270F7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D27-8ADD-4FC6-8211-E9B6E287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6D2-43A3-4145-BC53-9FC6505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8D1-7A4C-4B11-A087-E31109C3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263-F1B3-4BAA-93ED-AF0E903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C15-7EB2-4393-94EF-A6EF8A8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08E-2C3D-43FF-9156-14A2C886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58D-75CF-4238-AC42-4721734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C8F-DBD7-4163-9B51-C17BD43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5F1-5A7E-4F81-9180-E31823F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2BCD-31DE-4499-BC0D-FB761D5EE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rsi.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11760" y="6583320"/>
            <a:ext cx="52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dia-2.web.britannica.com/eb-media/42/115042-004-B88D727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518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8001000" cy="2356560"/>
          </a:xfrm>
          <a:prstGeom prst="rect">
            <a:avLst/>
          </a:prstGeom>
          <a:solidFill>
            <a:srgbClr val="ffe8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writing a report about Black Bostonians in the1850s. You cannot find enough information in any of your social studies books. What other sources could you use to get infor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three different primar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paper articles written at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s of individuals living in Boston during the 18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 transcripts from the Massachusetts Supreme Judicial Court regarding the decision deny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 Americans equal access to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own ref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children had access to better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 children had access to better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children faced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 children faced segreg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tabLst>
                <a:tab algn="l" pos="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3320" y="309600"/>
            <a:ext cx="8305920" cy="22269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e you could use a time machine to visit the past. You have landed in Boston in the 1850s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 all of the w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Black children were treated differently from White children in Bo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8610480" cy="13737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name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850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ssachusetts Supreme Judicial Court decis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ny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lack Americans equal access to schoo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819520"/>
            <a:ext cx="71629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erts v. The City of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n v. Board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coln v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685800"/>
            <a:ext cx="8381880" cy="13737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name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50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.S. Supreme Court decis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d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Black Americans have equal access to schoo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819520"/>
            <a:ext cx="71629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erts v. The City of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n v. Board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coln v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2743200"/>
            <a:ext cx="571500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eenth Amend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33520"/>
            <a:ext cx="8610840" cy="155628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amendments stated that no one could be denied the right to vote due to 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133720"/>
            <a:ext cx="83822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schools can exist for black and white children as long as the quality of education offered in the schools is of equal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schools can exist for black and white children even if the quality is not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regation is wrong and should be b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schools are by their very nature not eq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762120"/>
            <a:ext cx="8229600" cy="58140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eparate but equal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6:52:13Z</dcterms:created>
  <dc:creator>Magner</dc:creator>
  <dc:description/>
  <dc:language>en-US</dc:language>
  <cp:lastModifiedBy>Magner</cp:lastModifiedBy>
  <dcterms:modified xsi:type="dcterms:W3CDTF">2009-08-29T00:58:07Z</dcterms:modified>
  <cp:revision>11</cp:revision>
  <dc:subject/>
  <dc:title>Slide 1</dc:title>
</cp:coreProperties>
</file>